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C65-852A-46D0-8DB5-48814C0D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F0E-D8F1-4698-8A24-3DDCDD19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BC4-741A-4FCF-9B7D-1DECBD73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1AC6-A8D1-4EA1-BD01-2C435EC8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B0F-2895-4BC5-AEF5-BD797727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723-5AAF-44E0-8250-E9F3CBF6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51E-473D-4AC1-90B9-537B7895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5FF-C63B-447B-82A7-66071CC2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346-65A8-430C-844E-97936F43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AC0-8CF2-42E1-807C-C6762876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62B-8861-4220-81D4-FF2CBBE3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407B-1EE6-4CAB-8452-17445C41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B811-F303-47B4-B0D2-D170ED7EC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410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5410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5424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3900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52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E/7E Model of Instr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5424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886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25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5410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5410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5424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3733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252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5410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5410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5424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73392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252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5410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i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5410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5424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di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y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733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2529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hi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54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37339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C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886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2438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2:44:16Z</dcterms:created>
  <dc:creator>HISD</dc:creator>
  <dc:description/>
  <dc:language>en-US</dc:language>
  <cp:lastModifiedBy>HISD</cp:lastModifiedBy>
  <dcterms:modified xsi:type="dcterms:W3CDTF">2009-01-27T02:24:35Z</dcterms:modified>
  <cp:revision>5</cp:revision>
  <dc:subject/>
  <dc:title>DNA</dc:title>
</cp:coreProperties>
</file>